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F9DF-7F78-4334-BF63-9A639714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77E3-FD18-4775-88E9-616C8F30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A83C1-C6A2-4AD0-804A-4C9E5E28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7917-EC9C-4286-AACA-7409DE0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5C1B-0949-4B5F-AC5D-69DCD8D8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3275-0B1D-4F4B-95E7-451621D6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EB7-DA3A-43B3-AC6C-E6B966B1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7ACD-B8EC-4550-A28F-6B5C88A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84E-47B6-4BE7-B79A-310921EF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D31-291F-4258-B704-E561F9B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2372-1546-4187-BD78-0ADE4FF5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EECE-2A8B-4CF1-B768-0EBBA60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18BD-651B-415E-819D-31FDE98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9AD9-7810-474F-8BCE-D6CADFE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0EC3-F66E-4E84-8069-528CB80F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DAC6-D0A1-4B7A-893D-F319616E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BB44-1738-4499-B33A-CC19C896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6940-E90C-4BFF-9165-746BF252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ACEF-E9C0-444C-A57A-EBBDCF58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3CB3-9D90-4D18-B37B-9851F5D2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9896-E2B3-4A34-BBDA-87AB5D36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3651-206B-46AE-AC72-0266DE0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8CF7-E0F8-48BA-886C-CAA1A4D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ED66-F8F2-4125-86E0-7DB4A37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EB10-5584-4926-B4AA-15BE20294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837E-8CCE-435C-8664-DCCCF8D988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352680" y="3809880"/>
            <a:ext cx="255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ayden Caleb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43200" y="1447920"/>
            <a:ext cx="3733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All About Me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3352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’m good at…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otb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Baseb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r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335304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44152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876920" y="411480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23isback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ike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FL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1352520" cy="824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1523880" cy="1295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14400" y="563868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Foo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Hot Wing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iz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runchwrap Supre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5880" y="1371600"/>
            <a:ext cx="2819520" cy="1733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248520" y="3733920"/>
            <a:ext cx="2400120" cy="181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49876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Teach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Hudn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We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s. Guill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f I Could I Would Hav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Billion dol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3505320" cy="2590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In 10 Years I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I want the best job I can get so that I don’t have to depend on anyone 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y Favorite Athletes ar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teve Smit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Marion Bar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Ladainian Tomlin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Vince You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Sean Tayl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Ken Griffey j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21932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743200" y="1219320"/>
            <a:ext cx="1595520" cy="1828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666880" y="3657600"/>
            <a:ext cx="2286000" cy="293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19720" y="1066680"/>
            <a:ext cx="1600200" cy="243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029200" y="4419720"/>
            <a:ext cx="3086280" cy="2136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6172200" y="2971800"/>
            <a:ext cx="1981080" cy="1320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43200" y="228600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6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50:01Z</dcterms:created>
  <dc:creator>771009</dc:creator>
  <dc:description/>
  <dc:language>en-US</dc:language>
  <cp:lastModifiedBy>771009</cp:lastModifiedBy>
  <dcterms:modified xsi:type="dcterms:W3CDTF">2008-10-31T15:21:57Z</dcterms:modified>
  <cp:revision>14</cp:revision>
  <dc:subject/>
  <dc:title>Hayden Caleb</dc:title>
</cp:coreProperties>
</file>